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CFD-7221-491A-B49A-686E8C16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866-0934-40CD-803E-65F9960A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977-DBC8-4817-B480-0ACD7D79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2E1-83EB-4F0C-B9E9-31DBCDA0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4ACF-8CAB-47E0-8548-81831651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C9A3-FA48-4131-BE81-0F891F3F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7A92-2570-4A51-A535-7A41461C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597-51B6-4F29-90EC-54B2908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70C9-D056-47D5-9199-11C38DFF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1FAF-A886-4425-81F6-B9D321BD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9AF2-8B6E-4DC5-9ED3-B40328D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714-F6AD-4969-8F8B-C5AB5EB6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AF35-A05F-492E-B475-30ACA26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6CBD-D98B-4783-B8B6-7F8795B5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85AA-F77F-4676-BC9D-B315C514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E54E-BC20-4036-BE50-83F53675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54AA-BC9B-4F3E-B07A-6B33F1FE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57F-F90C-472B-880B-993CF575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48E-37F3-44E7-BAC0-C360D180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C58-4456-4E2E-A499-1384764C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FE4-AA4C-4D2F-A9F1-53BFD9D9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3E5-4775-4C05-B7C8-0BBE4BE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6BA-96C9-4C60-A79D-204298B2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9DF-F4E7-4264-BF3C-A9F14497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1F86-0EEA-438F-87B6-AA84FABFC65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90FB-B00D-449E-8575-408A90EF407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5640" y="4005360"/>
            <a:ext cx="514836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قلباً فادي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8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ُرضي جلالَ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َ يسوع المجي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3280" y="210816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عودُ إن رأى جمالَ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ِن هذه الدنيا سَعي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نزي خيري حظِّي حياتي مجدي أي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حرَ الصلا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62360" y="217980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اقَت نفس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يكَ تأت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َبها م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ِلمِك السماح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1280" y="191628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إقبَلني ف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قلبك الزاه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يا مُنقِذ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كي أستريح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1844640"/>
            <a:ext cx="5580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واملك أنتَ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في قلبي الواهي واجعلْهُ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بالحبِ جريح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-</cp:lastModifiedBy>
  <dcterms:modified xsi:type="dcterms:W3CDTF">2003-01-08T07:34:51Z</dcterms:modified>
  <cp:revision>5</cp:revision>
  <dc:subject/>
  <dc:title>PowerPoint Presentation</dc:title>
</cp:coreProperties>
</file>